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B1922-755C-40F1-A03C-C3142FA9E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874BF-B4C2-4142-91E3-183D20487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C5E55-6C8B-4082-89F2-D744BD85C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F4244-CE07-4CED-A6DE-3A8B52FA0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BC977B-2099-4E85-8108-FD91797F84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D002C-2B67-47E1-B12F-D70247428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D0220D-9255-4BF2-B068-B62DC3EA3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96B7B-A428-4B7C-BC07-4F542011CC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055F5-2267-496D-ABD5-65DFE964A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19C67-C208-4226-B327-DCF525F89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0FB35-27AE-4DF7-94D6-E64A3893F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ACC8F-E60E-4870-B928-3917B86BB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C373F-D13E-4EBE-953F-581AC6E60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E52FD-5A9D-4122-AC9B-DE3923C35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C3D62-4B96-4CFA-828C-A719DC5D38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580AB0-3F0D-4BEB-8C94-A478D91FE4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1D1579-0017-444A-99D3-F01D9109C1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6DF35-D0BE-4722-9789-042F72127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6EB60-8A71-464B-8A1A-9CB4B5387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B3A34-1A1B-4AFD-8639-6971DFCAF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AEBF7-6149-4F07-90F7-AA8558301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5DD4A-D135-4F96-B67B-6AE4BFDC7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63E18-4521-4101-9BB8-47A9C8081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FCD7B-DD83-4210-A063-08775BC99A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E0CCC-1753-45EA-A9B1-7033650861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D8ACC-8903-4413-95BD-03FD072890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itch-Then-Plan Video Planning Template</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mportant Tips</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alk slowly and clearly</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e enthusiastic</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actice, Practice and Practice</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elax and have fun!</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out This Template</a:t>
            </a:r>
            <a:endParaRPr b="0" lang="en-US" sz="4400" spc="-1" strike="noStrike">
              <a:solidFill>
                <a:srgbClr val="ffcc66"/>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use this template, read then delete all of the slides that have a black background.  Complete the slides that have a blue backgroun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out Entrepreneurship</a:t>
            </a:r>
            <a:endParaRPr b="0" lang="en-US" sz="44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oing</a:t>
            </a:r>
            <a:r>
              <a:rPr b="0" lang="en-US" sz="2800" spc="-1" strike="noStrike">
                <a:solidFill>
                  <a:srgbClr val="ffffff"/>
                </a:solidFill>
                <a:latin typeface="Times New Roman"/>
              </a:rPr>
              <a:t>, not learning to do, is the essence of entrepreneurship.</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no one ever achieved success by </a:t>
            </a:r>
            <a:r>
              <a:rPr b="0" i="1" lang="en-US" sz="2800" spc="-1" strike="noStrike">
                <a:solidFill>
                  <a:srgbClr val="ffffff"/>
                </a:solidFill>
                <a:latin typeface="Times New Roman"/>
              </a:rPr>
              <a:t>planning</a:t>
            </a:r>
            <a:r>
              <a:rPr b="0" lang="en-US" sz="2800" spc="-1" strike="noStrike">
                <a:solidFill>
                  <a:srgbClr val="ffffff"/>
                </a:solidFill>
                <a:latin typeface="Times New Roman"/>
              </a:rPr>
              <a:t> for gol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rdest thing about getting started is </a:t>
            </a:r>
            <a:r>
              <a:rPr b="0" lang="en-US" sz="2800" spc="-1" strike="noStrike" u="sng">
                <a:solidFill>
                  <a:srgbClr val="ffffff"/>
                </a:solidFill>
                <a:uFillTx/>
                <a:latin typeface="Times New Roman"/>
              </a:rPr>
              <a:t>getting</a:t>
            </a:r>
            <a:r>
              <a:rPr b="0" lang="en-US" sz="2800" spc="-1" strike="noStrike">
                <a:solidFill>
                  <a:srgbClr val="ffffff"/>
                </a:solidFill>
                <a:latin typeface="Times New Roman"/>
              </a:rPr>
              <a:t> </a:t>
            </a:r>
            <a:r>
              <a:rPr b="0" lang="en-US" sz="2800" spc="-1" strike="noStrike" u="sng">
                <a:solidFill>
                  <a:srgbClr val="ffffff"/>
                </a:solidFill>
                <a:uFillTx/>
                <a:latin typeface="Times New Roman"/>
              </a:rPr>
              <a:t>started</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an (emerging) entrepreneur, you should always be selling—not strategizing about sell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roper Process</a:t>
            </a: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row together a pitch that contains the slides presented in this template.</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ry it out on some mentors, friends, and relatives.  Do this about ten times.</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et the team together in a room and discuss what you have learned.</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x the pitch.</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tart writing the scrip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plain Your Movie in The First Minute</a:t>
            </a:r>
            <a:endParaRPr b="0" lang="en-US" sz="36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ver has a presentation been given where the audience has said to itself, </a:t>
            </a:r>
            <a:r>
              <a:rPr b="0" i="1" lang="en-US" sz="2800" spc="-1" strike="noStrike">
                <a:solidFill>
                  <a:srgbClr val="ffffff"/>
                </a:solidFill>
                <a:latin typeface="Times New Roman"/>
              </a:rPr>
              <a:t>I wish the speaker had spent the first fifteen minutes explaining his life story</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you</a:t>
            </a:r>
            <a:r>
              <a:rPr b="0" lang="ja-JP" sz="2800" spc="-1" strike="noStrike">
                <a:solidFill>
                  <a:srgbClr val="ffffff"/>
                </a:solidFill>
                <a:latin typeface="Times New Roman"/>
              </a:rPr>
              <a:t>’</a:t>
            </a:r>
            <a:r>
              <a:rPr b="0" lang="en-US" sz="2800" spc="-1" strike="noStrike">
                <a:solidFill>
                  <a:srgbClr val="ffffff"/>
                </a:solidFill>
                <a:latin typeface="Times New Roman"/>
              </a:rPr>
              <a:t>re busy warming up, your listeners are inevitably wondering, </a:t>
            </a:r>
            <a:r>
              <a:rPr b="0" i="1" lang="en-US" sz="2800" spc="-1" strike="noStrike">
                <a:solidFill>
                  <a:srgbClr val="ffffff"/>
                </a:solidFill>
                <a:latin typeface="Times New Roman"/>
              </a:rPr>
              <a:t>is your movie about?</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everyone a favor:  Answer that question in the </a:t>
            </a:r>
            <a:r>
              <a:rPr b="0" lang="en-US" sz="2800" spc="-1" strike="noStrike" u="sng">
                <a:solidFill>
                  <a:srgbClr val="ffffff"/>
                </a:solidFill>
                <a:uFillTx/>
                <a:latin typeface="Times New Roman"/>
              </a:rPr>
              <a:t>first minute</a:t>
            </a:r>
            <a:r>
              <a:rPr b="0" lang="en-US" sz="2800" spc="-1" strike="noStrike">
                <a:solidFill>
                  <a:srgbClr val="ffffff"/>
                </a:solidFill>
                <a:latin typeface="Times New Roman"/>
              </a:rPr>
              <a:t>.  Once the audience has learned what you do, they can listen to everything else with a more focused perspectiv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137124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beautiful horses </a:t>
            </a:r>
            <a:endParaRPr b="0" lang="en-US" sz="4400" spc="-1" strike="noStrike">
              <a:solidFill>
                <a:srgbClr val="ffcc66"/>
              </a:solidFill>
              <a:latin typeface="Arial"/>
            </a:endParaRPr>
          </a:p>
        </p:txBody>
      </p:sp>
      <p:sp>
        <p:nvSpPr>
          <p:cNvPr id="98" name="PlaceHolder 2"/>
          <p:cNvSpPr>
            <a:spLocks noGrp="1"/>
          </p:cNvSpPr>
          <p:nvPr>
            <p:ph type="subTitle"/>
          </p:nvPr>
        </p:nvSpPr>
        <p:spPr>
          <a:xfrm>
            <a:off x="0" y="3123720"/>
            <a:ext cx="9144000" cy="25909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lly kabro</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ducer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DD75C-5394-47A4-8F32-58BC27805D98}" type="datetime2">
              <a:rPr b="0" lang="en-US" sz="3200" spc="-1" strike="noStrike">
                <a:solidFill>
                  <a:srgbClr val="ffffff"/>
                </a:solidFill>
                <a:latin typeface="Times New Roman"/>
              </a:rPr>
              <a:t>Wednesday, July 29, 2026</a:t>
            </a:fld>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urpose</a:t>
            </a:r>
            <a:endParaRPr b="0" lang="en-US" sz="44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 want you to know about the habitat that the horse lives in and also what they like what they eat. How can you treat them.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utline Your Idea</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a great story teller.</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 will introduce the animal to the audience.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I will to overview the entire vide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 would later go into detail about what I overview.</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ally I will summarize my entire video.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usiness Model</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will make money by letting the other people know about the things that horse like so they can go and buy some horses and they are going to able to fed them and take care of them.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will your movie be special and different? My movie will be special because the horses are beautiful and they are nice to ride. I tells about the things that horses like to do and e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15:42:13Z</dcterms:created>
  <dc:creator/>
  <dc:description/>
  <dc:language>en-US</dc:language>
  <cp:lastModifiedBy>City School</cp:lastModifiedBy>
  <dcterms:modified xsi:type="dcterms:W3CDTF">2013-02-20T19:13:57Z</dcterms:modified>
  <cp:revision>37</cp:revision>
  <dc:subject/>
  <dc:title>The Pitch-Then-Plan Business Planning Template</dc:title>
</cp:coreProperties>
</file>